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04AE8-EACC-418D-94CF-716A8DFD0AD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riting A Good Book Review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ing A Good Book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OMEWORK-DAY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-DAY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a Paragraph 3 &amp; 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nt this typed neatly in a readable font, size 14 by tomor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What Is A Book Review ?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Book Review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 Good Book Review . . 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ood Book Review . .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ves the reader in suspe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the 1st paragraph, you will need to include the genre, and what type of people the book is geared toward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rst paragraph follows the title and auth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st paragraph, you will need to include the genre, and what type of people the book is geared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In the 2nd paragraph you want to include your personal opinions about the book and how parts relate to your personal life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2nd paragraph you want to include your personal opinions about the book and how parts relate to your personal li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aragraph is strictly about you and your thoughts, and enjoy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HOMEWORK-DAY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onight’s homework is to write the 1st 2 paragraphs of a book review on the book you will be using for this project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EWORK-DAY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night’s homework is to write the 1st 2 paragraphs of a book review on the book you will be using for this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r 3rd paragraph is the longest of all of your paragraph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3rd paragraph is the longest of all of your paragrap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go through phases 1 throug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ee next slid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3-PLANN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main events in the 1st 4th of your boo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st part of the middle.  Talk about the major problem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3-PL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your summary, you will need to design a phases plann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main events in the 1st 4th of your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main events and the problems that occur during the 1st part of the middle.  Talk about the major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as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Paragraph 4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grap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your last required para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the followi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’s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wards Book Has Recei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Info About The B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6515-1949-4E3A-BF7D-ED6DE287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4328-E7C9-4318-A74B-41D99559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BC23-A728-4ECA-9C48-C0959726C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2734-4ED7-4695-88C3-848F4E7E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7EB8D-1024-48AA-A015-CAEB274B3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6723-EF6D-4F84-A69E-208C86D7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29949-A166-4DB6-B73E-720AE72D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C4DED-A671-4083-BDBD-6CD7A1B46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186EE-B2B0-4671-9961-749CE982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E8DBA-2ADF-416A-8012-400B766C6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3ADD-57B8-4E49-AAEB-B80BF14D3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67D9-B378-4739-8502-6002668E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E57F-FF06-4796-BFE5-9E78B5533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EDCB6-2201-46D8-BF95-507086AE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A96DA-D1D9-418B-8D19-CA19D7494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B8CB8-265B-4BA6-9E3D-6A5E0D055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1D3DD-E917-4C64-9E9E-E4749DA89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5CDA-E98D-43ED-8308-5DF27D2B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48F4-E33C-4B12-98BA-057C55ECD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3F8D-94B9-403B-8575-E1B0FB03A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1D80-9773-41BE-917A-810DE515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47D4-3C59-4581-810D-03962AC8E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B0BA-5FCA-44D3-AA40-9838FB7A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B4E4-784F-4183-AF03-2A43889D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2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2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33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34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A1DBA-7482-4C11-8966-234655BE6D1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3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7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19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806EB-D3A6-4205-B276-5034EB4C7F62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riting A Good Book Review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Write a Paragraph 3 &amp; 4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UTTING IT ALL TOGETH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Now you have a great report to be proud of that will count for a major part in your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 want this typed neatly in a readable font, size 14 by tomorrow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What Is A Book Review ?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 written opinion of what you think of a certain book as well as an accompanying summary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A Good Book Review . . .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statement telling the genre and what types of people would enjoy reading this book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your personal opinions and thoughts about the book and relates the book to your personal lif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Gives a brief summary of what goes on in the book but not giving a way the final event ( to do this, you usually just say a question such as “Who will win the vigorous battle between ________ and ______?  Read the book to find out !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43160" indent="-44316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Leaves the reader in suspens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e first paragraph follows the title and autho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, you will need to include the genre, and what type of people the book is geared toward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2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In the 2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you want to include your personal opinions about the book and how parts relate to your personal li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paragraph is strictly about you and your thoughts, and enjoyment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HOMEWORK-DAY 1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onight’s homework is to write the 1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2 paragraphs of a book review on the book you will be using for this projec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At the end of this part of the unit you will put everything together for 1 grad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r 3</a:t>
            </a:r>
            <a:r>
              <a:rPr b="0" lang="en-US" sz="3200" spc="-1" strike="noStrike" baseline="30000">
                <a:solidFill>
                  <a:srgbClr val="5b5249"/>
                </a:solidFill>
                <a:latin typeface="Times New Roman"/>
              </a:rPr>
              <a:t>rd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paragraph is the longest of all of your paragraph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will give a descriptive yet brief summary of at least 9 sentences but no more that 15 sentenc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You must go through phases 1 through 3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see next slide)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3-PLANNER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r your summary, you will need to design a phases planne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609480" y="3809880"/>
            <a:ext cx="8382240" cy="2667240"/>
          </a:xfrm>
          <a:prstGeom prst="flowChartOr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762120" y="3200400"/>
            <a:ext cx="36576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1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in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4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th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of your book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952880" y="3352680"/>
            <a:ext cx="38102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2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main events and the problems that occur during the 1</a:t>
            </a:r>
            <a:r>
              <a:rPr b="0" lang="en-US" sz="1800" spc="-1" strike="noStrike" baseline="30000">
                <a:solidFill>
                  <a:srgbClr val="5b5249"/>
                </a:solidFill>
                <a:latin typeface="Times New Roman"/>
              </a:rPr>
              <a:t>st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 part of the middle.  Talk about the major proble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914400" y="5257800"/>
            <a:ext cx="3657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3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Talk about the 3nd half of the middle and the steps leading up to the solution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5105520" y="525780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Phase 4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You don’t talk about this phase in your paragraph 3 but you must still plan it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Paragraph 4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s is your last required paragraph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alk about the following;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uthor’s purpose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wards Book Has Received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Additional Info About The Book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-228600">
              <a:lnSpc>
                <a:spcPct val="90000"/>
              </a:lnSpc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Closing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3" marL="171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REMEMBER-WHAT EVR YOUR WRITE IN THE LAST PARAGRAPH IS WHAT MOST PEOPLE WILL COMMONLY REMEMBER.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5T20:20:03Z</dcterms:created>
  <dc:creator>Ben Swanson</dc:creator>
  <dc:description/>
  <dc:language>en-US</dc:language>
  <cp:lastModifiedBy>RomaK</cp:lastModifiedBy>
  <dcterms:modified xsi:type="dcterms:W3CDTF">2015-09-02T09:49:05Z</dcterms:modified>
  <cp:revision>4</cp:revision>
  <dc:subject/>
  <dc:title>Writing A Good Book Review</dc:title>
</cp:coreProperties>
</file>